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CA2-1920-49F5-B6BF-07CC5CF9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EFF-121A-4483-BC17-994ECF4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D2E-2172-4686-B636-08CB3A6B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605-C1E6-4603-9BCF-57480950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923-3D15-47BD-A29A-7E0876C1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DF1-81C9-4C9C-9420-7181327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C1A-7CB1-4732-9BCC-57226A67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FC7-A597-45E7-BEED-FF4AD51E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B32-5268-44E2-A68F-FBBF973E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0D9-F116-49A3-AA9A-89CB081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C11-B7F0-4BCA-9514-97F27A25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BF4-DC5F-49C4-8A26-932DBBA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879E-9A66-491B-B023-29D024BD0D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цедуры аттестации педагогических работников государственных и муниципальных образовательных учреждений Оренбургской области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как составная часть пакета документов аттестуемого представляется в Аттестационную комиссию, первыми с ним знакомятся эксперты. Они обрабатывают и подсчитывают результаты самооценки. Затем прилагают полученные результаты к листу самооценк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экспертной оценки и самооценка педагогической деятельности аттестуемого являются основными моментами в определении уровня квалификации при установлении соответствия требованиям квалификационных категор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делают вывод, насколько аргументировано заявление педагогического работника с просьбой об аттест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вправе включить в экспертное заключение рекомендаци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ое заключение, содержащее вывод экспертной группы, подписывается руководителем и членами экспертной группы, заверяется подписью руководителя образовательного учреждения, печатью образовательного учреждения, передается в УО методисту курирующему аттест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b050"/>
              </a:solidFill>
              <a:latin typeface="Monotype Corsiv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ю деятельности экспертной группы является проведение всестороннего анализа результатов профессиональной деятельности педагогического работника и подготовка экспертного заключ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принципами работы экспертной группы являются объективность, коллегиальность, открытость, коррект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боты экспер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и анализируют 1-2 урока, занятия или мероприятия, проводимых педагогическим работнико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 портфолио, следят за соответствием результатов деятельности аттестуемого требованиям, названным в Порядке;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зучают рабочие программы, классные журналы, результаты уровня контроля достижений обучающихся (воспитанников), методические и дидактические материалы, используемые и самостоятельно подготовленные аттестуемым и т.д.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водят беседы с руководителем образовательного учреждения, его заместителями, руководителем методического объединения, коллегами аттестуемого, со всеми, кто может предоставить аргументированную информацию об уровне развития компетенций аттестуем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эксперты обращают внимание на правовое знание, являющееся значимым параметром оценки соответствующих компетенц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аттестуемый заполняет самостоятельно, но, если у него возникли затруднения или вопросы, он вправе обратиться за помощью к экспертам, членам подкомиссии или Аттестационной комиссии, где ему обязаны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urukina</cp:lastModifiedBy>
  <dcterms:modified xsi:type="dcterms:W3CDTF">2015-11-05T05:21:30Z</dcterms:modified>
  <cp:revision>29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